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743-5ABF-4172-8F88-D661ECD0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792-C401-455C-BBEC-8FF85D2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436-C09C-4FA3-A915-38EEC37A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E11-6538-4D12-BEF4-4056BDF0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E43F-891A-4DC1-A547-2D0EBAA7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373E-F1CD-4E22-8A80-5496959E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A12E-E54B-472C-9BA1-7AE6DDE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0B1-565C-4278-9087-CA7A4E14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4EE-C447-437C-8B20-4C4A750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FAF-3C5E-4301-BB3F-D98A431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5DA-52BD-4E0B-B045-67451A3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7AC-F115-4F3A-BCE3-FAFD9D50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1DB-00D8-4F3C-8635-A18480B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D5B-1E26-4E89-9B4D-92DCCEB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1D87-FA69-4210-9152-B9397A8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9A3E-9127-447B-AC9D-F51057F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98C-679A-4F16-81C1-AD15AE48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3CD-8B38-41F7-9AEC-D9B38F4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60B-B25E-44B9-82F8-DC26B247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79A-3DB4-4C78-9907-D31B16B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147-61FA-4ADD-972A-DEEC4C3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830-01D8-4146-AA09-6F2E10C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F9D-B468-4697-BEBB-0199518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F26-D5AC-440D-BD62-1265554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0CE-87C1-4586-AB03-49999600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AE89-DCF8-43F3-883E-F42434F1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13.4:  America Moves Toward War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33360" y="358092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nited States enters WWII due to aggression in Europe and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viet Milit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Picture 4" descr="Soviet troops in winter clothing advance during Zhukov's counteroffensive"/>
          <p:cNvPicPr/>
          <p:nvPr/>
        </p:nvPicPr>
        <p:blipFill>
          <a:blip r:embed="rId1"/>
          <a:stretch/>
        </p:blipFill>
        <p:spPr>
          <a:xfrm>
            <a:off x="-38160" y="1600200"/>
            <a:ext cx="9218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Picture 4" descr="Well-equipped Siberians move towards the front"/>
          <p:cNvPicPr/>
          <p:nvPr/>
        </p:nvPicPr>
        <p:blipFill>
          <a:blip r:embed="rId1"/>
          <a:stretch/>
        </p:blipFill>
        <p:spPr>
          <a:xfrm>
            <a:off x="0" y="452520"/>
            <a:ext cx="913608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.  Planning for W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ntic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a postwar environment: economy, democracy, fre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sinks several US cargo ships = “shoot on sight policy by US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matter of time before US enters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*****************************************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erman Wolf Pack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of U-boats sinking British cargo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se were US ships leased by Britain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Navy allowed to act in self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828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File:U9Submarine.jpg"/>
          <p:cNvPicPr/>
          <p:nvPr/>
        </p:nvPicPr>
        <p:blipFill>
          <a:blip r:embed="rId1"/>
          <a:stretch/>
        </p:blipFill>
        <p:spPr>
          <a:xfrm>
            <a:off x="1371600" y="4267080"/>
            <a:ext cx="4915080" cy="212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File:U-47s.jpg"/>
          <p:cNvPicPr/>
          <p:nvPr/>
        </p:nvPicPr>
        <p:blipFill>
          <a:blip r:embed="rId2"/>
          <a:stretch/>
        </p:blipFill>
        <p:spPr>
          <a:xfrm>
            <a:off x="4800600" y="1905120"/>
            <a:ext cx="43434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deki To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Hideki_Tojo.wmv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.  Japan Attacks the U.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’s goal to expand through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, to include pacific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responds to Japanese expansion of China w/ oil emba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deciphers military code re: attack but have no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earl_Harbor___The_Attack_Begins_asf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.  December 7, 19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ese warplanes launched from aircraft carriers; &gt;180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3,500 casualties; 2400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declares war o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&amp; Italy declare war on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30680" y="1828800"/>
            <a:ext cx="90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ritimequest.com/misc_pages/pearl_harbor_slides/pearl_harbor_color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.  Moving away from Neutr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380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Neutrality Act of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nd carry”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now buy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oyers for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ive GB old destroyers, they let us have military bases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828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270px-Central_america_%28cia%29"/>
          <p:cNvPicPr/>
          <p:nvPr/>
        </p:nvPicPr>
        <p:blipFill>
          <a:blip r:embed="rId1"/>
          <a:stretch/>
        </p:blipFill>
        <p:spPr>
          <a:xfrm>
            <a:off x="4952880" y="1981080"/>
            <a:ext cx="3953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.  Isolation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For and against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for Freedom Committ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 First Committ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to Defend America by Aiding the All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.  Edging Towards W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for F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Freedo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Image:FDR in 1933.jpg"/>
          <p:cNvPicPr/>
          <p:nvPr/>
        </p:nvPicPr>
        <p:blipFill>
          <a:blip r:embed="rId1"/>
          <a:stretch/>
        </p:blipFill>
        <p:spPr>
          <a:xfrm>
            <a:off x="5094360" y="1676520"/>
            <a:ext cx="3754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.  “Arsenal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mocracy"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d and Lease 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countries benefi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ain and 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ighting Hit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38280" y="198108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ilw0207"/>
          <p:cNvPicPr/>
          <p:nvPr/>
        </p:nvPicPr>
        <p:blipFill>
          <a:blip r:embed="rId1"/>
          <a:stretch/>
        </p:blipFill>
        <p:spPr>
          <a:xfrm>
            <a:off x="5181480" y="0"/>
            <a:ext cx="369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.  Hitler attack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oviet Un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942- Feb ‘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3 million tro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viets use scorched- earth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wks = 6 mos due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ilw0259"/>
          <p:cNvPicPr/>
          <p:nvPr/>
        </p:nvPicPr>
        <p:blipFill>
          <a:blip r:embed="rId1"/>
          <a:stretch/>
        </p:blipFill>
        <p:spPr>
          <a:xfrm>
            <a:off x="4341960" y="380880"/>
            <a:ext cx="48020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04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z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icture 4" descr="&quot;Many men who had become separated from their units...&quot;"/>
          <p:cNvPicPr/>
          <p:nvPr/>
        </p:nvPicPr>
        <p:blipFill>
          <a:blip r:embed="rId1"/>
          <a:stretch/>
        </p:blipFill>
        <p:spPr>
          <a:xfrm>
            <a:off x="1371600" y="1371600"/>
            <a:ext cx="7772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A German army column struggles through the mud, past a destroyed Soviet tank.  Nevel, Soviet Union, fall 1943."/>
          <p:cNvPicPr/>
          <p:nvPr/>
        </p:nvPicPr>
        <p:blipFill>
          <a:blip r:embed="rId1"/>
          <a:stretch/>
        </p:blipFill>
        <p:spPr>
          <a:xfrm>
            <a:off x="-25560" y="14400"/>
            <a:ext cx="916956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German troops walk by destroyed buildings in Zhitomir. Soviet Union, wartime."/>
          <p:cNvPicPr/>
          <p:nvPr/>
        </p:nvPicPr>
        <p:blipFill>
          <a:blip r:embed="rId1"/>
          <a:stretch/>
        </p:blipFill>
        <p:spPr>
          <a:xfrm>
            <a:off x="0" y="120600"/>
            <a:ext cx="9156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07T19:22:0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